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F2F3-D096-466F-8E2C-65A5D9FFD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search is showing that teams of teachers are far more effective when they work togeth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LTs, faculty groups, sub 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Very relevant to T&amp;L coaches in coaching role – Important when building and sustaining productive relationshi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eed to understand what makes us and others ti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xplain questionnaire – work of Diane Turner and Thelma Gre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o questionnai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ersonality types – explain reason for compass – relates to cultures from north , south, east and western parts of the glo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 u="sng">
                <a:solidFill>
                  <a:srgbClr val="000000"/>
                </a:solidFill>
                <a:uFillTx/>
                <a:latin typeface="Arial"/>
              </a:rPr>
              <a:t>Stereo types –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not intended to be a racial commentary – Purely to give a visual promp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35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ad characteristics – Important to look at characteristics of other groups as well as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35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eeling strong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lso importance of being aware of others worst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 summary………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ink about these questions in relation to your dominant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 your role as Teaching and Learning coaches, what are the implications of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Get into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personality groups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– All Norths, All South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Discuss Questions – on cards on tables – Pick a spokesperson and report back to the who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ove into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sub regional groups.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ke a visual representation of your groups personality types. – Paper, pens ,sticky dots – put sub region name in it. Team leaders to lead this activity and to show and tell re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5230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3640" y="4287240"/>
            <a:ext cx="85230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3640" y="428724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91160" y="428724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5440" y="227628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7240" y="227628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3640" y="428724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5440" y="428724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7240" y="428724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3640" y="2276280"/>
            <a:ext cx="85230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5230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23640" y="1557000"/>
            <a:ext cx="85230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23640" y="428724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3640" y="2276280"/>
            <a:ext cx="85230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91160" y="428724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3640" y="4287240"/>
            <a:ext cx="85230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5230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3640" y="4287240"/>
            <a:ext cx="85230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23640" y="428724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1160" y="428724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05440" y="227628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7240" y="227628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23640" y="428724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05440" y="428724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7240" y="428724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23640" y="2276280"/>
            <a:ext cx="85230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5230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5230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23640" y="1557000"/>
            <a:ext cx="85230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3640" y="428724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91160" y="428724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23640" y="4287240"/>
            <a:ext cx="85230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5230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640" y="4287240"/>
            <a:ext cx="85230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3640" y="428724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91160" y="428724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05440" y="227628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87240" y="227628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23640" y="428724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05440" y="428724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87240" y="428724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23640" y="1557000"/>
            <a:ext cx="85230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3640" y="428724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91160" y="428724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3640" y="4287240"/>
            <a:ext cx="85230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3600" cy="1474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3640" y="2276280"/>
            <a:ext cx="85230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380280"/>
            <a:ext cx="918360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-34920"/>
            <a:ext cx="9242280" cy="6910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3280" y="5229000"/>
            <a:ext cx="64087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323640" y="2276280"/>
            <a:ext cx="85230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314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6343560"/>
            <a:ext cx="9180360" cy="5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5229000"/>
            <a:ext cx="64087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26189"/>
                </a:solidFill>
                <a:latin typeface="Arial"/>
              </a:rPr>
              <a:t>Teaching and learning Coach Training</a:t>
            </a:r>
            <a:br>
              <a:rPr sz="2800"/>
            </a:br>
            <a:r>
              <a:rPr b="0" lang="en-AU" sz="2800" spc="-1" strike="noStrike">
                <a:solidFill>
                  <a:srgbClr val="226189"/>
                </a:solidFill>
                <a:latin typeface="Arial"/>
              </a:rPr>
              <a:t>January/ February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402920" y="6165360"/>
            <a:ext cx="6410520" cy="3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Personality Com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90720" y="68580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1413000"/>
            <a:ext cx="273528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00"/>
                </a:solidFill>
                <a:latin typeface="Arial Black"/>
                <a:ea typeface="Arial"/>
              </a:rPr>
              <a:t>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 Vi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 Black"/>
                <a:ea typeface="Arial"/>
              </a:rPr>
              <a:t>strong and determ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635280" y="2852640"/>
          <a:ext cx="1944720" cy="16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852640"/>
                    <a:ext cx="1944720" cy="16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539640" y="2492280"/>
            <a:ext cx="2683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800080"/>
                </a:solidFill>
                <a:latin typeface="Arial Black"/>
                <a:ea typeface="Arial"/>
              </a:rPr>
              <a:t>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 American Pio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 Black"/>
                <a:ea typeface="Arial"/>
              </a:rPr>
              <a:t>adventurous, innovative, risk t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84720" y="2708280"/>
            <a:ext cx="2303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ff"/>
                </a:solidFill>
                <a:latin typeface="Arial Black"/>
                <a:ea typeface="Arial"/>
              </a:rPr>
              <a:t>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 Or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 Black"/>
                <a:ea typeface="Arial"/>
              </a:rPr>
              <a:t>conservative, reserved, f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84360" y="4508640"/>
            <a:ext cx="3888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6600"/>
                </a:solidFill>
                <a:latin typeface="Arial Black"/>
                <a:ea typeface="Arial"/>
              </a:rPr>
              <a:t>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 South Sea Isl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 Black"/>
                <a:ea typeface="Arial"/>
              </a:rPr>
              <a:t>friendly, hospitable, easy g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341360"/>
            <a:ext cx="77724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6021360"/>
            <a:ext cx="6400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5661000"/>
            <a:ext cx="244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Extracted from The Personality Compass: A New Way to Understand People by Diane Turner and Thelma Greco (Element Book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Best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1628640"/>
          <a:ext cx="8229600" cy="4133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NORTH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DIRECT                 CONFI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ASSERTIVE          COMPET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INDEPENDENT     DETERMI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DECISIVE              HARD WOR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SO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PATIENT                    FRIEN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GOOD LISTENER      CA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UNDERSTANDING     K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NURTURING               GI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VISIONARY                 INNOV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ADVENTUROUS         CREA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MULTI TALENTED      F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SENSE OF HUMOUR  SPIRI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E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FOCUSED              INDUST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METHODICAL       RESPON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LOGICAL               SE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PUNCTUAL           RESER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32720" y="630864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80000" y="5877000"/>
            <a:ext cx="338292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Extracted from The Personality Compass: A New Way to Understand People by Diane Turner and Thelma Greco (Element Book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213372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Worst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84360" y="1700280"/>
          <a:ext cx="7762680" cy="4176360"/>
        </p:xfrm>
        <a:graphic>
          <a:graphicData uri="http://schemas.openxmlformats.org/drawingml/2006/table">
            <a:tbl>
              <a:tblPr/>
              <a:tblGrid>
                <a:gridCol w="3876480"/>
                <a:gridCol w="3886200"/>
              </a:tblGrid>
              <a:tr h="20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NORTH </a:t>
                      </a: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ARGUMENTATIVE  IMPAT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AGGRESSIVE         SARCASTIC CONTROLLING       PUS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JUDGEMENTAL     ARROG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SO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LACKADAISICAL       INSEC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EASILY HURT          COMPLAINER            VULNERABLE           CLIN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EASILY INTIMIDATED  S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SILLY                        OFTEN 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IMPULSIVE               INACCU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UNDISCIPLINED      SUPERFI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CARELE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E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PERFECTIONIST        LO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HUMOURLESS           CRI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INFLEXIBLE                NAG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1055a4"/>
                          </a:solidFill>
                          <a:latin typeface="Arial"/>
                        </a:rPr>
                        <a:t>TUNNEL-VISIONED    OBSES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4859280" y="5950080"/>
            <a:ext cx="3745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Extracted from The Personality Compass: A New Way to Understand People by Diane Turner and Thelma Greco (Element Book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68580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59280" y="1484280"/>
            <a:ext cx="27349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00"/>
                </a:solidFill>
                <a:latin typeface="Arial Black"/>
                <a:ea typeface="Arial"/>
              </a:rPr>
              <a:t>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ff0000"/>
                </a:solidFill>
                <a:latin typeface="Arial Black"/>
                <a:ea typeface="Arial"/>
              </a:rPr>
              <a:t>Let’s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ff0000"/>
                </a:solidFill>
                <a:latin typeface="Comic Sans MS"/>
                <a:ea typeface="Arial"/>
              </a:rPr>
              <a:t>Action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419640" y="2852640"/>
          <a:ext cx="2016000" cy="17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852640"/>
                    <a:ext cx="2016000" cy="17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179280" y="2421000"/>
            <a:ext cx="2737080" cy="27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800080"/>
                </a:solidFill>
                <a:latin typeface="Arial Black"/>
                <a:ea typeface="Arial"/>
              </a:rPr>
              <a:t>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7b0078"/>
                </a:solidFill>
                <a:latin typeface="Comic Sans MS"/>
                <a:ea typeface="Arial"/>
              </a:rPr>
              <a:t>Imagine, 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7b0078"/>
                </a:solidFill>
                <a:latin typeface="Comic Sans MS"/>
                <a:ea typeface="Arial"/>
              </a:rPr>
              <a:t>The vision,</a:t>
            </a:r>
            <a:r>
              <a:rPr b="1" i="1" lang="en-AU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i="1" lang="en-AU" sz="2400" spc="-1" strike="noStrike">
                <a:solidFill>
                  <a:srgbClr val="7b0078"/>
                </a:solidFill>
                <a:latin typeface="Comic Sans MS"/>
                <a:ea typeface="Arial"/>
              </a:rPr>
              <a:t>mean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b0078"/>
                </a:solidFill>
                <a:latin typeface="Comic Sans MS"/>
                <a:ea typeface="Arial"/>
              </a:rPr>
              <a:t>The Big Pi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27640" y="2421000"/>
            <a:ext cx="262728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ff"/>
                </a:solidFill>
                <a:latin typeface="Arial Black"/>
                <a:ea typeface="Arial"/>
              </a:rPr>
              <a:t>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3333ff"/>
                </a:solidFill>
                <a:latin typeface="Comic Sans MS"/>
                <a:ea typeface="Arial"/>
              </a:rPr>
              <a:t>Who, what, when, why,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ff"/>
                </a:solidFill>
                <a:latin typeface="Comic Sans MS"/>
                <a:ea typeface="Arial"/>
              </a:rPr>
              <a:t>Structure &amp; detail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87640" y="4724280"/>
            <a:ext cx="3024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6600"/>
                </a:solidFill>
                <a:latin typeface="Arial Black"/>
                <a:ea typeface="Arial"/>
              </a:rPr>
              <a:t>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600" spc="-1" strike="noStrike">
                <a:solidFill>
                  <a:srgbClr val="006600"/>
                </a:solidFill>
                <a:latin typeface="Comic Sans MS"/>
                <a:ea typeface="Arial"/>
              </a:rPr>
              <a:t>Share,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6600"/>
                </a:solidFill>
                <a:latin typeface="Comic Sans MS"/>
                <a:ea typeface="Arial"/>
              </a:rPr>
              <a:t>The ca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26684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76360" y="6021360"/>
            <a:ext cx="6400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27640" y="5589720"/>
            <a:ext cx="259236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Extracted from The Personality Compass: A New Way to Understand People by Diane Turner and Thelma Greco (Element Book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52600" y="1238400"/>
            <a:ext cx="83055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1055a4"/>
                </a:solidFill>
                <a:latin typeface="Arial"/>
                <a:ea typeface="Arial"/>
              </a:rPr>
              <a:t>PERSONAL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055a4"/>
                </a:solidFill>
                <a:latin typeface="Verdana"/>
                <a:ea typeface="Arial"/>
              </a:rPr>
              <a:t>What are the strengths of your sty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055a4"/>
                </a:solidFill>
                <a:latin typeface="Verdana"/>
              </a:rPr>
              <a:t>What are the limitations of y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055a4"/>
                </a:solidFill>
                <a:latin typeface="Verdana"/>
              </a:rPr>
              <a:t>   </a:t>
            </a:r>
            <a:r>
              <a:rPr b="0" lang="en-AU" sz="3200" spc="-1" strike="noStrike">
                <a:solidFill>
                  <a:srgbClr val="1055a4"/>
                </a:solidFill>
                <a:latin typeface="Verdana"/>
              </a:rPr>
              <a:t>sty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055a4"/>
                </a:solidFill>
                <a:latin typeface="Verdana"/>
                <a:ea typeface="Arial"/>
              </a:rPr>
              <a:t> </a:t>
            </a:r>
            <a:r>
              <a:rPr b="0" lang="en-AU" sz="3200" spc="-1" strike="noStrike">
                <a:solidFill>
                  <a:srgbClr val="1055a4"/>
                </a:solidFill>
                <a:latin typeface="Verdana"/>
                <a:ea typeface="Arial"/>
              </a:rPr>
              <a:t>What do the other styles ne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055a4"/>
                </a:solidFill>
                <a:latin typeface="Verdana"/>
                <a:ea typeface="Arial"/>
              </a:rPr>
              <a:t>   </a:t>
            </a:r>
            <a:r>
              <a:rPr b="0" lang="en-AU" sz="3200" spc="-1" strike="noStrike">
                <a:solidFill>
                  <a:srgbClr val="1055a4"/>
                </a:solidFill>
                <a:latin typeface="Verdana"/>
                <a:ea typeface="Arial"/>
              </a:rPr>
              <a:t>know about you so that you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055a4"/>
                </a:solidFill>
                <a:latin typeface="Verdana"/>
                <a:ea typeface="Arial"/>
              </a:rPr>
              <a:t>   </a:t>
            </a:r>
            <a:r>
              <a:rPr b="0" lang="en-AU" sz="3200" spc="-1" strike="noStrike">
                <a:solidFill>
                  <a:srgbClr val="1055a4"/>
                </a:solidFill>
                <a:latin typeface="Verdana"/>
              </a:rPr>
              <a:t>work together effectiv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26684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94000" y="6021360"/>
            <a:ext cx="6400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1238400"/>
            <a:ext cx="871380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1055a4"/>
                </a:solidFill>
                <a:latin typeface="Verdana"/>
                <a:ea typeface="Arial"/>
              </a:rPr>
              <a:t>In relation to your role as a coach…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1055a4"/>
                </a:solidFill>
                <a:latin typeface="Verdana"/>
                <a:ea typeface="Arial"/>
              </a:rPr>
              <a:t> </a:t>
            </a:r>
            <a:r>
              <a:rPr b="0" lang="en-AU" sz="2800" spc="-1" strike="noStrike">
                <a:solidFill>
                  <a:srgbClr val="1055a4"/>
                </a:solidFill>
                <a:latin typeface="Verdana"/>
                <a:ea typeface="Arial"/>
              </a:rPr>
              <a:t>How does your style help establish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055a4"/>
                </a:solidFill>
                <a:latin typeface="Verdana"/>
                <a:ea typeface="Arial"/>
              </a:rPr>
              <a:t>   </a:t>
            </a:r>
            <a:r>
              <a:rPr b="0" lang="en-AU" sz="2800" spc="-1" strike="noStrike">
                <a:solidFill>
                  <a:srgbClr val="1055a4"/>
                </a:solidFill>
                <a:latin typeface="Verdana"/>
                <a:ea typeface="Arial"/>
              </a:rPr>
              <a:t>maintain an effective coaching relationsh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055a4"/>
                </a:solidFill>
                <a:latin typeface="Verdana"/>
                <a:ea typeface="Arial"/>
              </a:rPr>
              <a:t>What challenges are there for y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055a4"/>
                </a:solidFill>
                <a:latin typeface="Verdana"/>
                <a:ea typeface="Arial"/>
              </a:rPr>
              <a:t>   </a:t>
            </a:r>
            <a:r>
              <a:rPr b="0" lang="en-AU" sz="2800" spc="-1" strike="noStrike">
                <a:solidFill>
                  <a:srgbClr val="1055a4"/>
                </a:solidFill>
                <a:latin typeface="Verdana"/>
                <a:ea typeface="Arial"/>
              </a:rPr>
              <a:t>sty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055a4"/>
                </a:solidFill>
                <a:latin typeface="Verdana"/>
                <a:ea typeface="Arial"/>
              </a:rPr>
              <a:t>What aspects of the other styles migh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055a4"/>
                </a:solidFill>
                <a:latin typeface="Verdana"/>
                <a:ea typeface="Arial"/>
              </a:rPr>
              <a:t>   </a:t>
            </a:r>
            <a:r>
              <a:rPr b="0" lang="en-AU" sz="2800" spc="-1" strike="noStrike">
                <a:solidFill>
                  <a:srgbClr val="1055a4"/>
                </a:solidFill>
                <a:latin typeface="Verdana"/>
              </a:rPr>
              <a:t>find hard to man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055a4"/>
                </a:solidFill>
                <a:latin typeface="Verdana"/>
                <a:ea typeface="Arial"/>
              </a:rPr>
              <a:t> </a:t>
            </a:r>
            <a:r>
              <a:rPr b="0" lang="en-AU" sz="2800" spc="-1" strike="noStrike">
                <a:solidFill>
                  <a:srgbClr val="1055a4"/>
                </a:solidFill>
                <a:latin typeface="Verdana"/>
                <a:ea typeface="Arial"/>
              </a:rPr>
              <a:t>What strategies might you emplo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119700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94000" y="6021360"/>
            <a:ext cx="6400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23:33:15Z</dcterms:created>
  <dc:creator>Administrator</dc:creator>
  <dc:description/>
  <dc:language>en-US</dc:language>
  <cp:lastModifiedBy>Staff</cp:lastModifiedBy>
  <dcterms:modified xsi:type="dcterms:W3CDTF">2008-01-24T09:56:42Z</dcterms:modified>
  <cp:revision>13</cp:revision>
  <dc:subject/>
  <dc:title>THE PERSONALITY COMPASS</dc:title>
</cp:coreProperties>
</file>